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A4913-70BE-4D74-AF8B-D63C722B1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9627C-F64B-4D6D-A014-76414B9E3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A38A8-510C-4A5F-B492-BC36065C4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1CF51-0D02-4947-BA2C-E6065E3F7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48657-15C0-4B69-9B22-CAA1FD444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ECF22-2589-4F31-8C3A-AD6196680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53EEA-B9BA-4614-B957-42B13A9F4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F025D-BDF5-485E-8EDA-07F3FB2E2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5D53C-F51F-4E82-B55D-33DFBD6A0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B40D0-6FD0-4F99-A918-8B9230E66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76FF2-F93D-4969-A72B-BED15FD41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54E7C-5FAC-41A4-9AEB-54C286F2B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F9A4-4C0E-457B-883C-E0C6DAE051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3.61111E-006 -2.36994E-006 L -0.00938 -0.06335 C -0.01511 -0.05225 -0.02292 -0.05294 -0.0316 -0.04855 C -0.04063 -0.04416 -0.04358 -0.04185 -0.05382 -0.04 C -0.08924 -0.04231 -0.08542 -0.03075 -0.09045 -0.06543 C -0.08993 -0.07676 -0.09028 -0.08809 -0.08889 -0.09919 C -0.08855 -0.10196 -0.0882 -0.09341 -0.08716 -0.09086 C -0.0842 -0.083 -0.07743 -0.07607 -0.07292 -0.06959 C -0.0566 -0.07029 -0.029 -0.09248 -0.02379 -0.07167 C -0.01875 -0.05156 -0.05556 -0.06728 -0.07136 -0.06335 C -0.08108 -0.06104 -0.1 -0.05271 -0.1 -0.05271 C -0.10261 -0.05063 -0.10521 -0.04855 -0.10782 -0.04647 C -0.10955 -0.04508 -0.11424 -0.0437 -0.11268 -0.04208 C -0.10973 -0.03907 -0.10521 -0.04046 -0.10157 -0.04 C -0.09462 -0.03907 -0.08785 -0.03815 -0.08091 -0.03792 C -0.05973 -0.03676 -0.03855 -0.03653 -0.01736 -0.03583 C -0.02466 -0.03422 -0.03091 -0.0319 -0.03802 -0.02959 C -0.01736 -0.02219 -0.02639 -0.02451 0.01597 -0.02959 C 0.01961 -0.03005 0.0085 -0.03098 0.00486 -0.03167 C -0.01111 -0.03491 0.00052 -0.03375 -0.02049 -0.03375 L 0.05086 -0.06543 L 0.0684 -0.10566 L 0.56996 -0.48601 L 0.1 -0.03583 E">
                                      <p:cBhvr>
                                        <p:cTn id="6" dur="2000" fill="hold"/>
                                        <p:tgtEl>
                                          <p:spTgt spid="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5105520" y="1600200"/>
            <a:ext cx="361944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1a3</cp:lastModifiedBy>
  <dcterms:modified xsi:type="dcterms:W3CDTF">2012-06-19T10:58:17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